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172-071F-4ECF-8C33-C47D63D4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579-700B-4057-9F85-9F2A93DC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718-09B9-4880-BB4B-4F9CB77E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7F1-945E-4A6F-A008-B6AD091D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DB3-3F5A-4DF6-99CD-AA8994A0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E64-F326-4358-8678-E61E3610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996-8681-4BD0-A789-F4C97512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804-ECDF-4251-8BF4-4BC80BDA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A943-BDB5-42AF-AC5C-CF132A25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70B-7778-47BF-8497-3813A621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AD8-FEE8-44A9-A476-A1B78282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CAD-9669-4826-8DF6-BE4385D9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1F3B-5C7F-4E61-9560-C3F61C77C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274680"/>
            <a:ext cx="69138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cc"/>
                </a:solidFill>
                <a:latin typeface="Bookman Old Style"/>
              </a:rPr>
              <a:t>               </a:t>
            </a:r>
            <a:r>
              <a:rPr b="1" lang="bg-BG" sz="4400" spc="-1" strike="noStrike">
                <a:solidFill>
                  <a:srgbClr val="ff99cc"/>
                </a:solidFill>
                <a:latin typeface="Bookman Old Style"/>
              </a:rPr>
              <a:t>83</a:t>
            </a: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ъс добрите си дела светете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разгласявайте вестта;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със светило вий се украсете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за да срещнете Хри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944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0000"/>
                </a:solidFill>
                <a:latin typeface="Bookman Old Style"/>
              </a:rPr>
              <a:t>Припе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"Будни бъдете!" - Господ реч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Побързайте всички сег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Той ще ни вземе скоро веч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в Своята свята зем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280880" y="1627200"/>
            <a:ext cx="992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Бдете и молете се във всек час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пристъпете при Христа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кат чада на своя благ и мил Спас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Monotype Corsiva"/>
              </a:rPr>
              <a:t>вий измийте се в кръв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944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0000"/>
                </a:solidFill>
                <a:latin typeface="Bookman Old Style"/>
              </a:rPr>
              <a:t>Припе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"Будни бъдете!" - Господ реч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Побързайте всички сег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Той ще ни вземе скоро веч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в Своята свята зем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36360" y="-27000"/>
            <a:ext cx="9180360" cy="8137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Бдете, вярвайте, бъдете точни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този свят докато трай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докат славата Христова почне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Monotype Corsiva"/>
              </a:rPr>
              <a:t>в вечността, в небесний р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944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0000"/>
                </a:solidFill>
                <a:latin typeface="Bookman Old Style"/>
              </a:rPr>
              <a:t>Припе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"Будни бъдете!" - Господ реч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Побързайте всички сег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Той ще ни вземе скоро веч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00"/>
                </a:solidFill>
                <a:latin typeface="Monotype Corsiva"/>
              </a:rPr>
              <a:t>в Своята свята зем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00:54:09Z</dcterms:created>
  <dc:creator>TrifonTrifonow</dc:creator>
  <dc:description/>
  <dc:language>en-US</dc:language>
  <cp:lastModifiedBy>TrifonTrifonow</cp:lastModifiedBy>
  <dcterms:modified xsi:type="dcterms:W3CDTF">2005-11-22T07:41:59Z</dcterms:modified>
  <cp:revision>11</cp:revision>
  <dc:subject/>
  <dc:title>Slide 1</dc:title>
</cp:coreProperties>
</file>